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2CB67-B549-43B6-A78A-565020DCEB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236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1980720"/>
            <a:ext cx="7618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371600" y="4528080"/>
            <a:ext cx="7618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041E8-BDDC-43E4-9922-66413A913F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236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1980720"/>
            <a:ext cx="3717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75440" y="1980720"/>
            <a:ext cx="3717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4528080"/>
            <a:ext cx="3717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275440" y="4528080"/>
            <a:ext cx="3717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6484B-2166-47E2-866F-307E9452AE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236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1980720"/>
            <a:ext cx="2452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47400" y="1980720"/>
            <a:ext cx="2452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22840" y="1980720"/>
            <a:ext cx="2452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371600" y="4528080"/>
            <a:ext cx="2452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947400" y="4528080"/>
            <a:ext cx="2452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22840" y="4528080"/>
            <a:ext cx="2452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BAA0B-2635-4F9F-B70F-4B54A65E27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A93D5-DA8D-41A9-8A82-417DC271653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236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76183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8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04603-EF98-443B-A6A3-9C3FB63D0AE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236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1980720"/>
            <a:ext cx="761832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0D42E-9007-46E5-9561-158CF300B9C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236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1980720"/>
            <a:ext cx="371772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275440" y="1980720"/>
            <a:ext cx="371772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849A3-EE1D-4CF9-AE4A-1EF5C3287C5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236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1C38F-FF82-4174-A9CF-96F556A22B7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371240" y="228600"/>
            <a:ext cx="754236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663F0-49E7-46C6-95DC-D43894D750C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236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1980720"/>
            <a:ext cx="3717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5440" y="1980720"/>
            <a:ext cx="371772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71600" y="4528080"/>
            <a:ext cx="3717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39711-9F66-4E6E-B4BC-1051D46FD5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236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76183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8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22F14-932A-4FA8-BC26-BAC5806BEF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236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1980720"/>
            <a:ext cx="371772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75440" y="1980720"/>
            <a:ext cx="3717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275440" y="4528080"/>
            <a:ext cx="3717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F34A4-616E-4C18-A9D2-DB29B5D9285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236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1980720"/>
            <a:ext cx="3717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75440" y="1980720"/>
            <a:ext cx="3717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528080"/>
            <a:ext cx="7618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96A1B-AE63-4C07-89BB-662BAB6D5F4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236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1980720"/>
            <a:ext cx="7618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371600" y="4528080"/>
            <a:ext cx="7618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2C156-227E-40C0-A0D4-E9793B853A2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236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1980720"/>
            <a:ext cx="3717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5440" y="1980720"/>
            <a:ext cx="3717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528080"/>
            <a:ext cx="3717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275440" y="4528080"/>
            <a:ext cx="3717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238CA-89C6-4EEB-B325-768F296D010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236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1980720"/>
            <a:ext cx="2452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947400" y="1980720"/>
            <a:ext cx="2452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522840" y="1980720"/>
            <a:ext cx="2452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371600" y="4528080"/>
            <a:ext cx="2452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947400" y="4528080"/>
            <a:ext cx="2452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522840" y="4528080"/>
            <a:ext cx="2452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779C6-0784-47A4-8E70-39B2FDC011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236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371600" y="1980720"/>
            <a:ext cx="761832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C609C-1205-4C06-803F-13BEB910D9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236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1980720"/>
            <a:ext cx="371772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275440" y="1980720"/>
            <a:ext cx="371772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21184-DC4F-4BCB-86AB-FDEEB7C951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236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9AE2F-993E-4713-94C6-5A11CE7BDE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371240" y="228600"/>
            <a:ext cx="754236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AF831-9684-4D19-A11C-93B20ABEFA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236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1980720"/>
            <a:ext cx="3717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75440" y="1980720"/>
            <a:ext cx="371772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371600" y="4528080"/>
            <a:ext cx="3717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9DB65-F4F9-43B0-BF52-F472E67B1B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236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1980720"/>
            <a:ext cx="371772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5440" y="1980720"/>
            <a:ext cx="3717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275440" y="4528080"/>
            <a:ext cx="3717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D1292-CAD6-469D-A765-7AA191E47A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236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1980720"/>
            <a:ext cx="3717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5440" y="1980720"/>
            <a:ext cx="3717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71600" y="4528080"/>
            <a:ext cx="7618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30A82-63C0-47D9-BDF8-0B15324563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80920" y="685440"/>
            <a:ext cx="5559480" cy="335124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7357680" y="6248160"/>
            <a:ext cx="2919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397FF-A64C-4C84-BE69-D98CCDC270A0}" type="slidenum">
              <a:rPr b="0" lang="en-US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236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Num" idx="2"/>
          </p:nvPr>
        </p:nvSpPr>
        <p:spPr>
          <a:xfrm>
            <a:off x="8003880" y="6248160"/>
            <a:ext cx="36828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9FED6-898A-4608-91CE-B7B245E25584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body"/>
          </p:nvPr>
        </p:nvSpPr>
        <p:spPr>
          <a:xfrm>
            <a:off x="1371600" y="1980720"/>
            <a:ext cx="761832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16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8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8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8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8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8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8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81280" y="541080"/>
            <a:ext cx="5561280" cy="3639960"/>
          </a:xfrm>
          <a:prstGeom prst="rect">
            <a:avLst/>
          </a:prstGeom>
          <a:noFill/>
          <a:ln w="0">
            <a:noFill/>
          </a:ln>
        </p:spPr>
        <p:txBody>
          <a:bodyPr lIns="50760" rIns="32040" tIns="50760" bIns="50760" anchor="ctr">
            <a:noAutofit/>
          </a:bodyPr>
          <a:p>
            <a:pPr marL="41400" indent="0" algn="ctr">
              <a:lnSpc>
                <a:spcPct val="100000"/>
              </a:lnSpc>
              <a:buNone/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9728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Arial"/>
              </a:rPr>
              <a:t>Geography Terms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183280" y="4181400"/>
            <a:ext cx="39607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3240" tIns="0" bIns="0" anchor="ctr">
            <a:normAutofit/>
          </a:bodyPr>
          <a:p>
            <a:pPr marL="38160" indent="0" algn="ctr">
              <a:lnSpc>
                <a:spcPct val="100000"/>
              </a:lnSpc>
              <a:buNone/>
              <a:tabLst>
                <a:tab algn="l" pos="0"/>
                <a:tab algn="l" pos="88920"/>
                <a:tab algn="l" pos="1003320"/>
                <a:tab algn="l" pos="1917720"/>
                <a:tab algn="l" pos="2832120"/>
                <a:tab algn="l" pos="3746520"/>
                <a:tab algn="l" pos="4660920"/>
                <a:tab algn="l" pos="5575320"/>
                <a:tab algn="l" pos="6489720"/>
                <a:tab algn="l" pos="7404120"/>
                <a:tab algn="l" pos="8318520"/>
                <a:tab algn="l" pos="9232920"/>
                <a:tab algn="l" pos="10147320"/>
                <a:tab algn="l" pos="11023560"/>
                <a:tab algn="l" pos="1192536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Arial"/>
              </a:rPr>
              <a:t>Grad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1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8920"/>
                <a:tab algn="l" pos="1003320"/>
                <a:tab algn="l" pos="1917720"/>
                <a:tab algn="l" pos="2832120"/>
                <a:tab algn="l" pos="3746520"/>
                <a:tab algn="l" pos="4660920"/>
                <a:tab algn="l" pos="5575320"/>
                <a:tab algn="l" pos="6489720"/>
                <a:tab algn="l" pos="7404120"/>
                <a:tab algn="l" pos="8318520"/>
                <a:tab algn="l" pos="9232920"/>
                <a:tab algn="l" pos="10147320"/>
                <a:tab algn="l" pos="11023560"/>
                <a:tab algn="l" pos="1192536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Arial"/>
              </a:rPr>
              <a:t>Social Stud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227160"/>
            <a:ext cx="7543800" cy="1753920"/>
          </a:xfrm>
          <a:prstGeom prst="rect">
            <a:avLst/>
          </a:prstGeom>
          <a:noFill/>
          <a:ln w="0">
            <a:noFill/>
          </a:ln>
        </p:spPr>
        <p:txBody>
          <a:bodyPr lIns="50760" rIns="32040" tIns="50760" bIns="50760" anchor="ctr">
            <a:noAutofit/>
          </a:bodyPr>
          <a:p>
            <a:pPr marL="41400" indent="0" algn="ctr">
              <a:lnSpc>
                <a:spcPct val="100000"/>
              </a:lnSpc>
              <a:buNone/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972800"/>
              </a:tabLst>
            </a:pPr>
            <a:r>
              <a:rPr b="0" lang="en-US" sz="4400" spc="-1" strike="noStrike">
                <a:solidFill>
                  <a:srgbClr val="0044fe"/>
                </a:solidFill>
                <a:latin typeface="Arial"/>
              </a:rPr>
              <a:t>Plain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27720" tIns="50760" bIns="50760" anchor="t">
            <a:normAutofit/>
          </a:bodyPr>
          <a:p>
            <a:pPr marL="379440" indent="-341280">
              <a:lnSpc>
                <a:spcPct val="100000"/>
              </a:lnSpc>
              <a:buClr>
                <a:srgbClr val="996600"/>
              </a:buClr>
              <a:buFont typeface="Wingdings" charset="2"/>
              <a:buChar char=""/>
              <a:tabLst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9728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lat lands that have small changes in elevation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590920" y="3200400"/>
            <a:ext cx="502920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32040" tIns="50760" bIns="50760" anchor="ctr">
            <a:noAutofit/>
          </a:bodyPr>
          <a:p>
            <a:pPr marL="41400" indent="0" algn="ctr">
              <a:lnSpc>
                <a:spcPct val="100000"/>
              </a:lnSpc>
              <a:buNone/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972800"/>
              </a:tabLst>
            </a:pPr>
            <a:r>
              <a:rPr b="0" lang="en-US" sz="4400" spc="-1" strike="noStrike">
                <a:solidFill>
                  <a:srgbClr val="003dcc"/>
                </a:solidFill>
                <a:latin typeface="Arial"/>
              </a:rPr>
              <a:t>Cliff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33920" cy="4495680"/>
          </a:xfrm>
          <a:prstGeom prst="rect">
            <a:avLst/>
          </a:prstGeom>
          <a:noFill/>
          <a:ln w="0">
            <a:noFill/>
          </a:ln>
        </p:spPr>
        <p:txBody>
          <a:bodyPr lIns="50760" rIns="27720" tIns="50760" bIns="50760" anchor="t">
            <a:normAutofit/>
          </a:bodyPr>
          <a:p>
            <a:pPr marL="379440" indent="-341280">
              <a:lnSpc>
                <a:spcPct val="100000"/>
              </a:lnSpc>
              <a:buClr>
                <a:srgbClr val="996600"/>
              </a:buClr>
              <a:buFont typeface="Wingdings" charset="2"/>
              <a:buChar char=""/>
              <a:tabLst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9728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 steep face of rock and soi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800600" y="1447920"/>
            <a:ext cx="419112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32040" tIns="50760" bIns="50760" anchor="ctr">
            <a:noAutofit/>
          </a:bodyPr>
          <a:p>
            <a:pPr marL="41400" indent="0" algn="ctr">
              <a:lnSpc>
                <a:spcPct val="100000"/>
              </a:lnSpc>
              <a:buNone/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972800"/>
              </a:tabLst>
            </a:pPr>
            <a:r>
              <a:rPr b="0" lang="en-US" sz="4400" spc="-1" strike="noStrike">
                <a:solidFill>
                  <a:srgbClr val="003dcc"/>
                </a:solidFill>
                <a:latin typeface="Arial"/>
              </a:rPr>
              <a:t>Canyon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00200" y="1676160"/>
            <a:ext cx="6477120" cy="5181480"/>
          </a:xfrm>
          <a:prstGeom prst="rect">
            <a:avLst/>
          </a:prstGeom>
          <a:noFill/>
          <a:ln w="0">
            <a:noFill/>
          </a:ln>
        </p:spPr>
        <p:txBody>
          <a:bodyPr lIns="50760" rIns="27720" tIns="50760" bIns="50760" anchor="t">
            <a:normAutofit/>
          </a:bodyPr>
          <a:p>
            <a:pPr marL="379440" indent="-341280">
              <a:lnSpc>
                <a:spcPct val="100000"/>
              </a:lnSpc>
              <a:buClr>
                <a:srgbClr val="996600"/>
              </a:buClr>
              <a:buFont typeface="Wingdings" charset="2"/>
              <a:buChar char=""/>
              <a:tabLst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9728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 deep valley with very steep sid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952880" y="3429000"/>
            <a:ext cx="321012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32040" tIns="50760" bIns="50760" anchor="ctr">
            <a:noAutofit/>
          </a:bodyPr>
          <a:p>
            <a:pPr marL="41400" indent="0" algn="ctr">
              <a:lnSpc>
                <a:spcPct val="100000"/>
              </a:lnSpc>
              <a:buNone/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972800"/>
              </a:tabLst>
            </a:pPr>
            <a:r>
              <a:rPr b="0" lang="en-US" sz="4400" spc="-1" strike="noStrike">
                <a:solidFill>
                  <a:srgbClr val="0044fe"/>
                </a:solidFill>
                <a:latin typeface="Arial"/>
              </a:rPr>
              <a:t>Glacier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50760" rIns="27720" tIns="50760" bIns="50760" anchor="t">
            <a:normAutofit/>
          </a:bodyPr>
          <a:p>
            <a:pPr marL="379440" indent="-341280">
              <a:lnSpc>
                <a:spcPct val="100000"/>
              </a:lnSpc>
              <a:buClr>
                <a:srgbClr val="996600"/>
              </a:buClr>
              <a:buFont typeface="Wingdings" charset="2"/>
              <a:buChar char=""/>
              <a:tabLst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9728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low moving river of 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371600" y="2590920"/>
            <a:ext cx="77724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32040" tIns="50760" bIns="50760" anchor="ctr">
            <a:noAutofit/>
          </a:bodyPr>
          <a:p>
            <a:pPr marL="41400" indent="0" algn="ctr">
              <a:lnSpc>
                <a:spcPct val="100000"/>
              </a:lnSpc>
              <a:buNone/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972800"/>
              </a:tabLst>
            </a:pPr>
            <a:r>
              <a:rPr b="0" lang="en-US" sz="4400" spc="-1" strike="noStrike">
                <a:solidFill>
                  <a:srgbClr val="003dcc"/>
                </a:solidFill>
                <a:latin typeface="Arial"/>
              </a:rPr>
              <a:t>Mountain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27720" tIns="50760" bIns="50760" anchor="t">
            <a:normAutofit/>
          </a:bodyPr>
          <a:p>
            <a:pPr marL="379440" indent="-341280">
              <a:lnSpc>
                <a:spcPct val="100000"/>
              </a:lnSpc>
              <a:buClr>
                <a:srgbClr val="996600"/>
              </a:buClr>
              <a:buFont typeface="Wingdings" charset="2"/>
              <a:buChar char=""/>
              <a:tabLst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9728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Very tall--natural place on Ear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9440" indent="-341280">
              <a:lnSpc>
                <a:spcPct val="100000"/>
              </a:lnSpc>
              <a:buClr>
                <a:srgbClr val="996600"/>
              </a:buClr>
              <a:buFont typeface="Wingdings" charset="2"/>
              <a:buChar char=""/>
              <a:tabLst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9728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allest mountain on Earth is Mt. Evere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572000" y="3581280"/>
            <a:ext cx="41148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227160"/>
            <a:ext cx="7543800" cy="1753920"/>
          </a:xfrm>
          <a:prstGeom prst="rect">
            <a:avLst/>
          </a:prstGeom>
          <a:noFill/>
          <a:ln w="0">
            <a:noFill/>
          </a:ln>
        </p:spPr>
        <p:txBody>
          <a:bodyPr lIns="50760" rIns="32040" tIns="50760" bIns="50760" anchor="ctr">
            <a:noAutofit/>
          </a:bodyPr>
          <a:p>
            <a:pPr marL="41400" indent="0" algn="ctr">
              <a:lnSpc>
                <a:spcPct val="100000"/>
              </a:lnSpc>
              <a:buNone/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972800"/>
              </a:tabLst>
            </a:pPr>
            <a:r>
              <a:rPr b="0" lang="en-US" sz="4400" spc="-1" strike="noStrike">
                <a:solidFill>
                  <a:srgbClr val="0044fe"/>
                </a:solidFill>
                <a:latin typeface="Arial"/>
              </a:rPr>
              <a:t>Oasis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1980720"/>
            <a:ext cx="373392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27720" tIns="50760" bIns="50760" anchor="t">
            <a:normAutofit/>
          </a:bodyPr>
          <a:p>
            <a:pPr marL="380880" indent="0">
              <a:lnSpc>
                <a:spcPct val="100000"/>
              </a:lnSpc>
              <a:buNone/>
              <a:tabLst>
                <a:tab algn="l" pos="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9728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9728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mall fertile area surrounded by dese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373392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214200"/>
            <a:ext cx="7543800" cy="1779840"/>
          </a:xfrm>
          <a:prstGeom prst="rect">
            <a:avLst/>
          </a:prstGeom>
          <a:noFill/>
          <a:ln w="0">
            <a:noFill/>
          </a:ln>
        </p:spPr>
        <p:txBody>
          <a:bodyPr lIns="50760" rIns="32040" tIns="50760" bIns="50760" anchor="ctr">
            <a:noAutofit/>
          </a:bodyPr>
          <a:p>
            <a:pPr marL="41400" indent="0" algn="ctr">
              <a:lnSpc>
                <a:spcPct val="100000"/>
              </a:lnSpc>
              <a:buNone/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972800"/>
              </a:tabLst>
            </a:pPr>
            <a:r>
              <a:rPr b="0" lang="en-US" sz="4400" spc="-1" strike="noStrike">
                <a:solidFill>
                  <a:srgbClr val="0044fe"/>
                </a:solidFill>
                <a:latin typeface="Arial"/>
              </a:rPr>
              <a:t>Peninsula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1994040"/>
            <a:ext cx="3733920" cy="4876560"/>
          </a:xfrm>
          <a:prstGeom prst="rect">
            <a:avLst/>
          </a:prstGeom>
          <a:noFill/>
          <a:ln w="0">
            <a:noFill/>
          </a:ln>
        </p:spPr>
        <p:txBody>
          <a:bodyPr lIns="50760" rIns="27720" tIns="50760" bIns="50760" anchor="t">
            <a:normAutofit/>
          </a:bodyPr>
          <a:p>
            <a:pPr marL="379440" indent="-341280">
              <a:lnSpc>
                <a:spcPct val="100000"/>
              </a:lnSpc>
              <a:buClr>
                <a:srgbClr val="996600"/>
              </a:buClr>
              <a:buFont typeface="Wingdings" charset="2"/>
              <a:buChar char=""/>
              <a:tabLst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9728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2712"/>
                </a:solidFill>
                <a:latin typeface="Arial"/>
              </a:rPr>
              <a:t>A piece of land surrounded by water on 3 s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105520" y="1600200"/>
            <a:ext cx="388620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240" y="227160"/>
            <a:ext cx="7543800" cy="1753920"/>
          </a:xfrm>
          <a:prstGeom prst="rect">
            <a:avLst/>
          </a:prstGeom>
          <a:noFill/>
          <a:ln w="0">
            <a:noFill/>
          </a:ln>
        </p:spPr>
        <p:txBody>
          <a:bodyPr lIns="50760" rIns="32040" tIns="50760" bIns="50760" anchor="ctr">
            <a:noAutofit/>
          </a:bodyPr>
          <a:p>
            <a:pPr marL="41400" indent="0" algn="ctr">
              <a:lnSpc>
                <a:spcPct val="100000"/>
              </a:lnSpc>
              <a:buNone/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972800"/>
              </a:tabLst>
            </a:pPr>
            <a:r>
              <a:rPr b="0" lang="en-US" sz="4400" spc="-1" strike="noStrike">
                <a:solidFill>
                  <a:srgbClr val="0044fe"/>
                </a:solidFill>
                <a:latin typeface="Arial"/>
              </a:rPr>
              <a:t>Island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1980720"/>
            <a:ext cx="373392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27720" tIns="50760" bIns="50760" anchor="t">
            <a:normAutofit/>
          </a:bodyPr>
          <a:p>
            <a:pPr marL="379440" indent="-341280">
              <a:lnSpc>
                <a:spcPct val="100000"/>
              </a:lnSpc>
              <a:buClr>
                <a:srgbClr val="996600"/>
              </a:buClr>
              <a:buFont typeface="Wingdings" charset="2"/>
              <a:buChar char=""/>
              <a:tabLst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9728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 piece  of land that is surrounded by water on all sid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181480" y="2590920"/>
            <a:ext cx="3505320" cy="3962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onnie Campbell</dc:creator>
  <dc:description/>
  <dc:language>en-US</dc:language>
  <cp:lastModifiedBy/>
  <cp:revision>0</cp:revision>
  <dc:subject/>
  <dc:title>Map Elements for Fun and Profit</dc:title>
</cp:coreProperties>
</file>